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7587-634C-4E9F-B3F6-7E32CBE4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904D-27F5-4B05-B453-24F4CA42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E38-382F-4688-9A1F-5824FCDBE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E51E-276C-4EA6-BA71-E0588E0F7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3367-8615-4E6A-97FF-5D1B46ACA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79A7-280D-4203-BB26-2CDFC367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012-751A-4857-844E-B3020F7ED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C848-C1FF-4CC4-B463-9936B02E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8B08-FDFD-4D1E-8FA7-5BA6AC63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58D-47AB-42A3-8034-146907CB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ABF-338B-4410-9E29-6C964BDE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6252-303D-42F1-AEFC-E618B0AA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8766-3B47-433B-9B12-6F44F4421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400" spc="-1" strike="noStrike">
                <a:solidFill>
                  <a:srgbClr val="000000"/>
                </a:solidFill>
                <a:latin typeface="Engravers MT"/>
              </a:rPr>
              <a:t>After the Stor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32000" y="5589720"/>
            <a:ext cx="6400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0000"/>
                </a:solidFill>
                <a:latin typeface="Engravers MT"/>
              </a:rPr>
              <a:t>(Dopo la piogg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Don't you think it would be far better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360072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en-GB" sz="3600" spc="-1" strike="noStrike">
                <a:solidFill>
                  <a:srgbClr val="000000"/>
                </a:solidFill>
                <a:latin typeface="Engravers MT"/>
              </a:rPr>
              <a:t>to just pack in the stormy</a:t>
            </a: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Engravers MT"/>
              </a:rPr>
              <a:t>weather?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3200" spc="-1" strike="noStrike">
                <a:solidFill>
                  <a:srgbClr val="000000"/>
                </a:solidFill>
                <a:latin typeface="Engravers MT"/>
              </a:rPr>
              <a:t>Just think how fast your heart would warm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to get a rainbow without a storm!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03280" y="764640"/>
            <a:ext cx="56880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400" spc="-1" strike="noStrike">
                <a:solidFill>
                  <a:srgbClr val="ffffff"/>
                </a:solidFill>
                <a:latin typeface="Engravers MT"/>
              </a:rPr>
              <a:t>A splendid thing it would be for sure</a:t>
            </a:r>
            <a:br>
              <a:rPr sz="4000"/>
            </a:b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893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GB" sz="4000" spc="-1" strike="noStrike">
                <a:solidFill>
                  <a:srgbClr val="ffffff"/>
                </a:solidFill>
                <a:latin typeface="Engravers MT"/>
              </a:rPr>
              <a:t>to always make peace</a:t>
            </a: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920" y="4869000"/>
            <a:ext cx="84963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without making w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501336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Engravers MT"/>
              </a:rPr>
              <a:t>Gianni Rod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ffffff"/>
                </a:solidFill>
                <a:latin typeface="Engravers MT"/>
              </a:rPr>
              <a:t>After the storm the skies will clear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that's when we see the rainbow appear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3456000" cy="56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Just like a bridge with banners that fl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3428640"/>
            <a:ext cx="8373960" cy="26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we cheer the sun </a:t>
            </a: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as it dances by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ffffff"/>
                </a:solidFill>
                <a:latin typeface="Engravers MT"/>
              </a:rPr>
              <a:t>What joy it is </a:t>
            </a:r>
            <a:br>
              <a:rPr sz="4000"/>
            </a:br>
            <a:r>
              <a:rPr b="1" i="1" lang="en-GB" sz="4000" spc="-1" strike="noStrike">
                <a:solidFill>
                  <a:srgbClr val="ffffff"/>
                </a:solidFill>
                <a:latin typeface="Engravers MT"/>
              </a:rPr>
              <a:t>to look up that way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000000"/>
                </a:solidFill>
                <a:latin typeface="Engravers MT"/>
              </a:rPr>
              <a:t>and see the ribbons that blow and sway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ffffff"/>
                </a:solidFill>
                <a:latin typeface="Engravers MT"/>
              </a:rPr>
              <a:t>But you only can see 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Engravers MT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Engravers MT"/>
              </a:rPr>
              <a:t>and this is what's sad</a:t>
            </a:r>
            <a:br>
              <a:rPr sz="2800"/>
            </a:br>
            <a:br>
              <a:rPr sz="1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i="1" lang="en-GB" sz="4000" spc="-1" strike="noStrike">
                <a:solidFill>
                  <a:srgbClr val="ffffff"/>
                </a:solidFill>
                <a:latin typeface="Engravers MT"/>
              </a:rPr>
              <a:t>after a tempest fierce, </a:t>
            </a:r>
            <a:br>
              <a:rPr sz="4000"/>
            </a:br>
            <a:r>
              <a:rPr b="1" i="1" lang="en-GB" sz="4000" spc="-1" strike="noStrike">
                <a:solidFill>
                  <a:srgbClr val="ffffff"/>
                </a:solidFill>
                <a:latin typeface="Engravers MT"/>
              </a:rPr>
              <a:t>cruel and mad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4T16:24:39Z</dcterms:created>
  <dc:creator>....</dc:creator>
  <dc:description/>
  <dc:language>en-US</dc:language>
  <cp:lastModifiedBy>....</cp:lastModifiedBy>
  <dcterms:modified xsi:type="dcterms:W3CDTF">2011-01-24T17:52:21Z</dcterms:modified>
  <cp:revision>20</cp:revision>
  <dc:subject/>
  <dc:title>After the Storm </dc:title>
</cp:coreProperties>
</file>